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632-52BA-41A8-88E7-BF657EC4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EEA-C5F7-49B8-945D-9045F80C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8D5-D571-465E-B7B7-A4738C26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C5B-2CF5-48AC-9B61-2F75C92C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5BD0-E95C-4EF8-A2C2-84FE06F6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3B5A-667C-4C7D-ADFA-3E965B54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A25B-118B-40CC-B633-FBC5F2D4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2FFB-44E2-4ABB-8E3B-6DD04414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06C5-72A7-4F77-89F8-7029BD59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6CBE-DACB-4101-99C9-56957515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BF4D-5955-408E-80A7-4E0EAE9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8717-99F9-41D6-88FA-D1C26168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6F50-3F2B-494B-AE5B-8A2AB9FB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38CA-2E2F-406D-9696-A87CEAEA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2E6F-43DE-43E0-A34B-A56D0B4D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7887-E1E1-4FEF-9693-CE2FCCD1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0409-0E00-4066-95C3-C012B01E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D028-60B8-432C-BD7B-D0CE8C08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DBF0-6414-4118-A96E-24CDF1BF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D4EC9-0638-4BCF-ADF4-50106C06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6A11-D88B-4751-A9F4-4FF139CC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BACB-A7C1-412F-AA91-B4C723A4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50D-4660-435F-9532-8AE366CA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7D68-F4FF-4BE8-B35D-8B902D10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54AC-6276-47EC-A187-816E26A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8B8A-D100-4EAE-AC99-134842F3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DC4F6-ED13-4DC7-B04D-E00213A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3C7E-0EFF-46D6-B1BD-582D017E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1D2FE-AD45-46A5-951C-20E0A048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0734-8C6C-48D1-9E6C-C6EFF2DA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694BB-EC53-42F5-96E1-7B755BD9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2A93-9699-4232-90CD-A6CE7A7A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AF94-3DC5-460E-BFAF-DBBFB064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D72-5406-441B-A109-3702565E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AC502-7DCC-4C8C-9010-E3221487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00D2-7301-4CC0-9E7C-FC239CC7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ACE3-BAD0-4D35-854E-C046F794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AC07-F73B-4EF7-A0C1-BE368EE2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53B3-4870-4AAE-88BA-04931E3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947AE-F835-451C-B12C-2E41686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FFDE5-F497-4797-9749-70A00B01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28F02-20F5-4378-9561-D29A156D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B0D4-33AC-4525-9D78-BDBB92AB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94D-839F-4162-8CB9-CE516EC5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BE7-DBB2-4887-9797-42F34C75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67A-BA31-4A4A-B76D-50E700AA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A85-2E11-493B-9A7A-FCE52BDB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9BE-9EF5-416A-AED6-D044F0D8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D7DD-6851-4B8A-A7C4-A7F9F8FD76B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23EC-1F38-45D5-812F-B470242FBBC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3243-67D7-4BEB-BA9B-303BFC3003C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8720-0D0F-41FE-B9F2-C612FECB286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429680" y="14292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3"/>
          <a:stretch/>
        </p:blipFill>
        <p:spPr>
          <a:xfrm>
            <a:off x="6345360" y="0"/>
            <a:ext cx="2798640" cy="21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5"/>
          <a:stretch/>
        </p:blipFill>
        <p:spPr>
          <a:xfrm>
            <a:off x="0" y="407196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3000240" y="3960720"/>
            <a:ext cx="328644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6286680" y="3857760"/>
            <a:ext cx="2822400" cy="30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4"/>
          <a:stretch/>
        </p:blipFill>
        <p:spPr>
          <a:xfrm>
            <a:off x="0" y="4511520"/>
            <a:ext cx="3070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3"/>
          <a:stretch/>
        </p:blipFill>
        <p:spPr>
          <a:xfrm>
            <a:off x="3071880" y="4500720"/>
            <a:ext cx="2855880" cy="2357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0" y="4470480"/>
            <a:ext cx="3143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Admin</cp:lastModifiedBy>
  <dcterms:modified xsi:type="dcterms:W3CDTF">2022-11-23T20:21:51Z</dcterms:modified>
  <cp:revision>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